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.jpeg" ContentType="image/jpeg"/>
  <Override PartName="/ppt/media/image3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5.jpeg" ContentType="image/jpeg"/>
  <Override PartName="/ppt/media/image8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2CC8-68C4-43F6-BB32-127935CCD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AC8E-26A9-41D3-9040-366A2D38F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1CA1-3253-44B8-B8CF-CF6BE9356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87BC-5E2E-463B-82DE-9D266EE1D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8EBF-6AE3-4AD8-A83D-76C42B206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076C-D45D-417E-AA20-F81749280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4457-6518-4A04-9720-1EBB8F1C8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B6CC-563A-4845-BC71-211CB4F8A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242E-B914-4C4A-A0A7-5B745CBB5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90D9-F523-489D-AB94-2817C9132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FF7F-E7B0-4829-A2C9-03B35E79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96C8-0AC5-4FB4-A812-E3708FBFD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1DC2-98BE-444B-90CD-06DAA4A0E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6102-1131-4A65-94E5-B827C03DD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E46E-1CF3-494D-87B0-B33C5D7BC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267C-3D3D-4665-A3A3-A943B4E99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F29E-2C3C-4856-9006-A2AB474A6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6CE1-ABDB-47FA-BE45-D931DFED8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AF6D-5F55-4AD4-9F14-EF3177350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2A5F-2061-4F85-88C8-446E0F65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1569-96BE-4A08-9BF5-1F8F0E968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37F1-B197-4DDB-82A3-8811AA071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BC0C-6190-44FB-9714-E019A6B89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6841-3791-4462-9EDF-0DAB912E5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4A04-C2C5-4A7B-B8AB-19A2D9ED9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04DC-4FCF-4F3A-B102-B170FB786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D804-C582-431D-8605-DE7A8EA82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6DB-D950-406B-A93E-D8F15B1A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6A7-44D3-4DBC-BB74-C61E6EA2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976-7162-4620-8928-E71CA132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B00-AA5C-4C60-B77C-01DA9BC5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D86-6BFF-4F22-B51E-F9CAD0CC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2B2-4323-4EFB-AEE4-1D745036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D57-4F35-478A-A17D-7E7F6FC3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10A-EFE4-4156-8458-EC32DCD9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190-3297-4BFC-BBB8-76C706C0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3FC-E315-47BF-A98B-6A89F45B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33B-B83E-45B5-AA67-5054103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67D-0B03-4B57-8604-4326765D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418"/>
            </a:gs>
            <a:gs pos="100000">
              <a:srgbClr val="fb17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613F-2D7A-4DD8-A678-C6BC08A2B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cientific Metho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. S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method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4740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54097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23cd"/>
                </a:solidFill>
                <a:latin typeface="Arial Rounded MT Bold"/>
              </a:rPr>
              <a:t>(what do you already know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= 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_______________ about your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et, books, interviews...but also make 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 -using 5 senses to make an observation…only stating known facts (NO OPIN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f23cd"/>
                </a:solidFill>
                <a:latin typeface="Arial"/>
              </a:rPr>
              <a:t>IN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286000" y="17524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3105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057400" y="3352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105"/>
                </a:solidFill>
                <a:latin typeface="Arial"/>
              </a:rPr>
              <a:t>objective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62120" y="42670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3105"/>
                </a:solidFill>
                <a:latin typeface="Arial"/>
              </a:rPr>
              <a:t>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aptop1"/>
          <p:cNvPicPr/>
          <p:nvPr/>
        </p:nvPicPr>
        <p:blipFill>
          <a:blip r:embed="rId1"/>
          <a:stretch/>
        </p:blipFill>
        <p:spPr>
          <a:xfrm>
            <a:off x="7391520" y="380880"/>
            <a:ext cx="1550880" cy="155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ReadingManiacs"/>
          <p:cNvPicPr/>
          <p:nvPr/>
        </p:nvPicPr>
        <p:blipFill>
          <a:blip r:embed="rId2"/>
          <a:stretch/>
        </p:blipFill>
        <p:spPr>
          <a:xfrm>
            <a:off x="6172200" y="5334120"/>
            <a:ext cx="1752480" cy="131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listen3"/>
          <p:cNvPicPr/>
          <p:nvPr/>
        </p:nvPicPr>
        <p:blipFill>
          <a:blip r:embed="rId3"/>
          <a:stretch/>
        </p:blipFill>
        <p:spPr>
          <a:xfrm>
            <a:off x="457200" y="685800"/>
            <a:ext cx="1143000" cy="95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vc-cartoon"/>
          <p:cNvPicPr/>
          <p:nvPr/>
        </p:nvPicPr>
        <p:blipFill>
          <a:blip r:embed="rId4"/>
          <a:stretch/>
        </p:blipFill>
        <p:spPr>
          <a:xfrm>
            <a:off x="7467480" y="3429000"/>
            <a:ext cx="14256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= 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_____________ about a ___________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200400" y="3808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23cd"/>
                </a:solidFill>
                <a:latin typeface="Arial"/>
              </a:rPr>
              <a:t>HYPOTHE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828800" y="16002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3105"/>
                </a:solidFill>
                <a:latin typeface="Arial"/>
              </a:rPr>
              <a:t>educated gu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219320" y="2133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3105"/>
                </a:solidFill>
                <a:latin typeface="Arial"/>
              </a:rPr>
              <a:t>cause/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23040271"/>
          <p:cNvPicPr/>
          <p:nvPr/>
        </p:nvPicPr>
        <p:blipFill>
          <a:blip r:embed="rId1"/>
          <a:stretch/>
        </p:blipFill>
        <p:spPr>
          <a:xfrm>
            <a:off x="3352680" y="3733920"/>
            <a:ext cx="2459160" cy="2971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76212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s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80880" y="1066680"/>
            <a:ext cx="8382240" cy="1191240"/>
          </a:xfrm>
          <a:prstGeom prst="rect">
            <a:avLst/>
          </a:prstGeom>
          <a:solidFill>
            <a:srgbClr val="e9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nders on a bicycle will keep the rider more dry when riding through puddles.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PORT"/>
          <p:cNvPicPr/>
          <p:nvPr/>
        </p:nvPicPr>
        <p:blipFill>
          <a:blip r:embed="rId1"/>
          <a:stretch/>
        </p:blipFill>
        <p:spPr>
          <a:xfrm>
            <a:off x="0" y="2362320"/>
            <a:ext cx="4724280" cy="3425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fondriest-with-fenders-789212"/>
          <p:cNvPicPr/>
          <p:nvPr/>
        </p:nvPicPr>
        <p:blipFill>
          <a:blip r:embed="rId2"/>
          <a:stretch/>
        </p:blipFill>
        <p:spPr>
          <a:xfrm>
            <a:off x="4572000" y="23623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380880" y="304920"/>
            <a:ext cx="60962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HYPOTHE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28600" y="6019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stated using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….THEN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= 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 the 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133720" y="6094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23cd"/>
                </a:solidFill>
                <a:latin typeface="Arial"/>
              </a:rPr>
              <a:t>EXPERIMENT (procedu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00400" y="15238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80880" y="44197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nders on a bicycle will keep the rider more dry when riding through puddles.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H="1">
            <a:off x="4267080" y="2438280"/>
            <a:ext cx="533520" cy="1752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groups in an experim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1828800"/>
          <a:ext cx="7696080" cy="38606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6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9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490e3"/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6d9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6d9e1"/>
                    </a:solidFill>
                  </a:tcPr>
                </a:tc>
              </a:tr>
            </a:tbl>
          </a:graphicData>
        </a:graphic>
      </p:graphicFrame>
      <p:sp>
        <p:nvSpPr>
          <p:cNvPr id="109" name="Text Box 24"/>
          <p:cNvSpPr/>
          <p:nvPr/>
        </p:nvSpPr>
        <p:spPr>
          <a:xfrm>
            <a:off x="762120" y="2057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5029200" y="2057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914400" y="28954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 being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4648320" y="274320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compare results…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ther variables kep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6" descr="atlas bike"/>
          <p:cNvPicPr/>
          <p:nvPr/>
        </p:nvPicPr>
        <p:blipFill>
          <a:blip r:embed="rId1"/>
          <a:stretch/>
        </p:blipFill>
        <p:spPr>
          <a:xfrm>
            <a:off x="2286000" y="4267080"/>
            <a:ext cx="2209680" cy="1378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5"/>
          <p:cNvSpPr/>
          <p:nvPr/>
        </p:nvSpPr>
        <p:spPr>
          <a:xfrm>
            <a:off x="4648320" y="4952880"/>
            <a:ext cx="36576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actice #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ypothe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ple leaves change color in the fall because light exposure decreases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LWBY089"/>
          <p:cNvPicPr/>
          <p:nvPr/>
        </p:nvPicPr>
        <p:blipFill>
          <a:blip r:embed="rId1"/>
          <a:stretch/>
        </p:blipFill>
        <p:spPr>
          <a:xfrm>
            <a:off x="2514600" y="2209680"/>
            <a:ext cx="1344600" cy="2025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LLWBY089"/>
          <p:cNvPicPr/>
          <p:nvPr/>
        </p:nvPicPr>
        <p:blipFill>
          <a:blip r:embed="rId2"/>
          <a:stretch/>
        </p:blipFill>
        <p:spPr>
          <a:xfrm>
            <a:off x="5334120" y="2209680"/>
            <a:ext cx="1344600" cy="2025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0" y="4343400"/>
            <a:ext cx="9144000" cy="2305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tween the experimental and control 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What factors MUST stay the same? (think of 10 or m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What is the ONE (and only) factor that should dif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light-stick-diagram"/>
          <p:cNvPicPr/>
          <p:nvPr/>
        </p:nvPicPr>
        <p:blipFill>
          <a:blip r:embed="rId1"/>
          <a:stretch/>
        </p:blipFill>
        <p:spPr>
          <a:xfrm>
            <a:off x="0" y="2438280"/>
            <a:ext cx="4208400" cy="4419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0" y="0"/>
            <a:ext cx="9144000" cy="254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actice #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ypothe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As the temperature of a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owstick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reases, the light intensity increas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419720" y="2971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191120" y="3048120"/>
            <a:ext cx="4952880" cy="321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tween the experimental and control 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What factors MUST stay the same? (think of 3 or m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What is the ONE (and only) factor that should dif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= 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666880" y="457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23cd"/>
                </a:solidFill>
                <a:latin typeface="Arial"/>
              </a:rPr>
              <a:t>RESULTS (record dat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3581280"/>
          <a:ext cx="8229600" cy="3059280"/>
        </p:xfrm>
        <a:graphic>
          <a:graphicData uri="http://schemas.openxmlformats.org/drawingml/2006/table">
            <a:tbl>
              <a:tblPr/>
              <a:tblGrid>
                <a:gridCol w="1619280"/>
                <a:gridCol w="1484280"/>
                <a:gridCol w="1693800"/>
                <a:gridCol w="1690920"/>
                <a:gridCol w="1741320"/>
              </a:tblGrid>
              <a:tr h="113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nce between each 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D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g. Velo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ic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con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9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97"/>
          <p:cNvSpPr/>
          <p:nvPr/>
        </p:nvSpPr>
        <p:spPr>
          <a:xfrm>
            <a:off x="533520" y="1295280"/>
            <a:ext cx="75438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DATA TABLES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8"/>
          <p:cNvSpPr/>
          <p:nvPr/>
        </p:nvSpPr>
        <p:spPr>
          <a:xfrm flipH="1">
            <a:off x="4724280" y="3352680"/>
            <a:ext cx="152640" cy="129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9"/>
          <p:cNvSpPr/>
          <p:nvPr/>
        </p:nvSpPr>
        <p:spPr>
          <a:xfrm>
            <a:off x="533520" y="2819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FORG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2"/>
          <p:cNvSpPr/>
          <p:nvPr/>
        </p:nvSpPr>
        <p:spPr>
          <a:xfrm>
            <a:off x="533520" y="2057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sistent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# of decimal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PHS: 3 ty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bargraph"/>
          <p:cNvPicPr/>
          <p:nvPr/>
        </p:nvPicPr>
        <p:blipFill>
          <a:blip r:embed="rId1"/>
          <a:stretch/>
        </p:blipFill>
        <p:spPr>
          <a:xfrm>
            <a:off x="533520" y="1600200"/>
            <a:ext cx="4724280" cy="2890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fruit_bargraph"/>
          <p:cNvPicPr/>
          <p:nvPr/>
        </p:nvPicPr>
        <p:blipFill>
          <a:blip r:embed="rId2"/>
          <a:stretch/>
        </p:blipFill>
        <p:spPr>
          <a:xfrm>
            <a:off x="5257800" y="1600200"/>
            <a:ext cx="3336840" cy="4648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380880" y="464832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BAR GRAPH - display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un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Science starts with what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barclay26"/>
          <p:cNvPicPr/>
          <p:nvPr/>
        </p:nvPicPr>
        <p:blipFill>
          <a:blip r:embed="rId1"/>
          <a:stretch/>
        </p:blipFill>
        <p:spPr>
          <a:xfrm>
            <a:off x="2666880" y="3095640"/>
            <a:ext cx="4942080" cy="376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rainbow"/>
          <p:cNvPicPr/>
          <p:nvPr/>
        </p:nvPicPr>
        <p:blipFill>
          <a:blip r:embed="rId2"/>
          <a:stretch/>
        </p:blipFill>
        <p:spPr>
          <a:xfrm>
            <a:off x="0" y="3675240"/>
            <a:ext cx="4572000" cy="318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fulgurite"/>
          <p:cNvPicPr/>
          <p:nvPr/>
        </p:nvPicPr>
        <p:blipFill>
          <a:blip r:embed="rId3"/>
          <a:stretch/>
        </p:blipFill>
        <p:spPr>
          <a:xfrm>
            <a:off x="0" y="2971800"/>
            <a:ext cx="3254400" cy="101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23127155"/>
          <p:cNvPicPr/>
          <p:nvPr/>
        </p:nvPicPr>
        <p:blipFill>
          <a:blip r:embed="rId4"/>
          <a:stretch/>
        </p:blipFill>
        <p:spPr>
          <a:xfrm>
            <a:off x="2971800" y="2971800"/>
            <a:ext cx="3174840" cy="2095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braconid-wasp3"/>
          <p:cNvPicPr/>
          <p:nvPr/>
        </p:nvPicPr>
        <p:blipFill>
          <a:blip r:embed="rId5"/>
          <a:stretch/>
        </p:blipFill>
        <p:spPr>
          <a:xfrm>
            <a:off x="6613560" y="3957480"/>
            <a:ext cx="2530440" cy="29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12074worm"/>
          <p:cNvPicPr/>
          <p:nvPr/>
        </p:nvPicPr>
        <p:blipFill>
          <a:blip r:embed="rId6"/>
          <a:stretch/>
        </p:blipFill>
        <p:spPr>
          <a:xfrm>
            <a:off x="6113520" y="2971800"/>
            <a:ext cx="3030480" cy="1774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7"/>
          <p:cNvSpPr/>
          <p:nvPr/>
        </p:nvSpPr>
        <p:spPr>
          <a:xfrm>
            <a:off x="1143000" y="838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 OBSERVATIO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0" y="152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rom these observations….we form ____________ and design experiments to find out mor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457200" y="1981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pie"/>
          <p:cNvPicPr/>
          <p:nvPr/>
        </p:nvPicPr>
        <p:blipFill>
          <a:blip r:embed="rId1"/>
          <a:stretch/>
        </p:blipFill>
        <p:spPr>
          <a:xfrm>
            <a:off x="0" y="28954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PIE (CIRC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914400" y="1295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displays percentages (out of 100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MTexam copy"/>
          <p:cNvPicPr/>
          <p:nvPr/>
        </p:nvPicPr>
        <p:blipFill>
          <a:blip r:embed="rId2"/>
          <a:stretch/>
        </p:blipFill>
        <p:spPr>
          <a:xfrm>
            <a:off x="4038480" y="2917800"/>
            <a:ext cx="510552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LINE GRAP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graph_line"/>
          <p:cNvPicPr/>
          <p:nvPr/>
        </p:nvPicPr>
        <p:blipFill>
          <a:blip r:embed="rId1"/>
          <a:stretch/>
        </p:blipFill>
        <p:spPr>
          <a:xfrm>
            <a:off x="1828800" y="2544840"/>
            <a:ext cx="5562720" cy="4313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26880" y="37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80880" y="1219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lays 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lationshi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connection) betwee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=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ate the 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971800" y="68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23cd"/>
                </a:solidFill>
                <a:latin typeface="Arial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Kid"/>
          <p:cNvPicPr/>
          <p:nvPr/>
        </p:nvPicPr>
        <p:blipFill>
          <a:blip r:embed="rId1"/>
          <a:stretch/>
        </p:blipFill>
        <p:spPr>
          <a:xfrm>
            <a:off x="7197840" y="4038480"/>
            <a:ext cx="1946160" cy="2819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762120" y="2895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 the data support or reject the  _______________?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nalyze the resul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762120" y="4952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sons for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371600" y="5791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OT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RROR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505320" y="19051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3105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762120" y="335268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3105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733920" y="48769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3105"/>
                </a:solidFill>
                <a:latin typeface="Arial"/>
              </a:rPr>
              <a:t>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= 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895480" y="4572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23cd"/>
                </a:solidFill>
                <a:latin typeface="Arial"/>
              </a:rPr>
              <a:t>RETEST, REP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overview_scientific_method2-1"/>
          <p:cNvPicPr/>
          <p:nvPr/>
        </p:nvPicPr>
        <p:blipFill>
          <a:blip r:embed="rId1"/>
          <a:stretch/>
        </p:blipFill>
        <p:spPr>
          <a:xfrm>
            <a:off x="0" y="1289160"/>
            <a:ext cx="5791320" cy="5568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5715000" y="1828800"/>
            <a:ext cx="3429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ality, science involves trial and error and often DOES NOT follow this rigid format!  This flow chart is a guide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Chemistry Music Video 1 The Scientific Method.mp" descr="Macintosh HD:Users:s71678:Desktop:Chemistry Music Video 1 The Scientific Method.mp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228600" y="2819520"/>
            <a:ext cx="8610480" cy="3313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 SODA AND MENTOS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you know  (prior knowledge)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ece of lined paper in Lab/Activity Se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914400" y="1676520"/>
            <a:ext cx="7315200" cy="642600"/>
          </a:xfrm>
          <a:prstGeom prst="rect">
            <a:avLst/>
          </a:prstGeom>
          <a:solidFill>
            <a:srgbClr val="a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A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YTHING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838080" y="914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D PAPER…(listen to direc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tos and Soda 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228600" y="0"/>
            <a:ext cx="8610480" cy="33260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 SODA AND MENTOS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id you observ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Be DETAILED and OBJECTI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96608743_5dcb8bbfb3"/>
          <p:cNvPicPr/>
          <p:nvPr/>
        </p:nvPicPr>
        <p:blipFill>
          <a:blip r:embed="rId1"/>
          <a:stretch/>
        </p:blipFill>
        <p:spPr>
          <a:xfrm>
            <a:off x="3048120" y="3276720"/>
            <a:ext cx="28652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228600" y="685800"/>
            <a:ext cx="8610480" cy="3313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. SODA AND MENTOS?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ypothesize.  Why did this happen?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mentos_soda_pop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0" y="0"/>
            <a:ext cx="9144000" cy="168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. SODA AND MENTOS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variables are tested?  Explain the finding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1066680" y="2438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</a:rPr>
              <a:t>Mythbusters Explain it All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mythbusters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2400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304920" y="3049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way does buttered toast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04920" y="6019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get more wet walking or running in the r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04920" y="2743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hatting on a cell phone while pumping gas start a fir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04920" y="42670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penny dropped off of a skyscraper kill a pedestrian? (what about a bullet shot into the air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04920" y="1523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singer really break glass with his/her vo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52280" y="533520"/>
            <a:ext cx="876312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1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ATION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e Video C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ketball Video C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3780320515_e796ab935e"/>
          <p:cNvPicPr/>
          <p:nvPr/>
        </p:nvPicPr>
        <p:blipFill>
          <a:blip r:embed="rId1"/>
          <a:stretch/>
        </p:blipFill>
        <p:spPr>
          <a:xfrm>
            <a:off x="2590920" y="3352680"/>
            <a:ext cx="4952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533520"/>
            <a:ext cx="899172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2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detailed observations…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rainstorm the five senses) Write one observation about this classroom for each of the 5 se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brainstorming"/>
          <p:cNvPicPr/>
          <p:nvPr/>
        </p:nvPicPr>
        <p:blipFill>
          <a:blip r:embed="rId1"/>
          <a:stretch/>
        </p:blipFill>
        <p:spPr>
          <a:xfrm>
            <a:off x="2362320" y="2971800"/>
            <a:ext cx="401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Fruit and Vegetable Decomposition, Time-lapse.mp" descr="Macintosh HD:Users:s71678:Movies:Tooble Movies:Fruit and Vegetable Decomposition, Time-lapse.mp"/>
          <p:cNvPicPr/>
          <p:nvPr/>
        </p:nvPicPr>
        <p:blipFill>
          <a:blip r:embed="rId1"/>
          <a:stretch/>
        </p:blipFill>
        <p:spPr>
          <a:xfrm>
            <a:off x="762120" y="1087560"/>
            <a:ext cx="7696080" cy="5770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 DE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52280" y="533520"/>
            <a:ext cx="876312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3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tery Item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the item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ght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detailed observations.  Include at least 8 deta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ithout saying what it really 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52280" y="533520"/>
            <a:ext cx="87631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3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DETAILED OBSERVATIONS AND FORMULATING QUESTION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11"/>
          <p:cNvSpPr/>
          <p:nvPr/>
        </p:nvSpPr>
        <p:spPr>
          <a:xfrm>
            <a:off x="0" y="304920"/>
            <a:ext cx="8991720" cy="5410080"/>
          </a:xfrm>
          <a:prstGeom prst="cloudCallout">
            <a:avLst>
              <a:gd name="adj1" fmla="val -43731"/>
              <a:gd name="adj2" fmla="val 68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990720" y="1523880"/>
            <a:ext cx="6781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UE OR FALSE… EVERYTHING IN THIS ROOM IS RELATED TO SCIENCE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 YOUR REASON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7:08:33Z</dcterms:created>
  <dc:creator>Sarah Sewatsky User</dc:creator>
  <dc:description/>
  <dc:language>en-US</dc:language>
  <cp:lastModifiedBy>Science Faculty</cp:lastModifiedBy>
  <cp:lastPrinted>2009-09-07T21:25:41Z</cp:lastPrinted>
  <dcterms:modified xsi:type="dcterms:W3CDTF">2012-09-20T11:20:25Z</dcterms:modified>
  <cp:revision>45</cp:revision>
  <dc:subject/>
  <dc:title>The Scientific Method… …the process of science </dc:title>
</cp:coreProperties>
</file>